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ct" ContentType="image/x-pict"/>
  <Override PartName="/ppt/media/image5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A2B7-A520-4D5E-8D03-5C918D4BD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360" y="404028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A183-BF5D-4089-A246-2F7E8088A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435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E5D1-7681-4809-9326-249C56FED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468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7900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36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468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7900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E90D-7F6B-4658-8DAD-7A0E1DBFD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7081B-EF8E-401C-9DD3-FE0707200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636D2-9F2A-45A2-A729-9667753F9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DA692-F551-4B15-B5CD-47E316004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65FD6-3375-40B2-8A29-05913E0D5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8203E-B642-4766-BF66-3E34BF5A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320" y="990360"/>
            <a:ext cx="67820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BE31D-3EBC-47E4-8BFF-80DD268E3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B9373-8C2F-45F7-A21B-9924D660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FC41-E7A1-4BEF-ACF2-9026EA890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435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11DBE-2163-478F-87D2-5CA18B08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D2B01-987E-4ACF-B216-EFC1E921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360" y="404028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41091-67F0-4651-A5E4-3596B5A2D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435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B5D33-5054-4A98-971C-99013BAD8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7900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36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7900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E2EE5-8F13-4842-A386-CBC136589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6355-7010-4715-B72D-3DF51EC23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214C-9C97-4512-B844-0BA74418E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5871-BB9E-49FF-A904-8949ABEF9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320" y="990360"/>
            <a:ext cx="67820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422F-DCC2-40FF-A86B-04B2DCB11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CEDB-842D-4AD5-B4AA-9EBEB4FE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435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AC57-7BBA-4099-BCBB-02152FF1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4FA9-3C20-433C-A5DB-4E2796D9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08440" indent="-2214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551960" indent="-2214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1995480" indent="-2214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1995480" indent="-2214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1995480" indent="-2214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37918-556C-452D-A6EA-305C4F35F8EA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88640" y="1371240"/>
            <a:ext cx="6705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0AA96-D5E2-49A8-9905-91D35BAADD6B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1142640"/>
            <a:ext cx="6705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6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Century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Learning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"/>
          <p:cNvSpPr/>
          <p:nvPr/>
        </p:nvSpPr>
        <p:spPr>
          <a:xfrm>
            <a:off x="1981080" y="4495680"/>
            <a:ext cx="4724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NEXT EXI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371240" y="1599840"/>
            <a:ext cx="62485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troduce Web 2.0 tools through Cyber Café Professional Development Sess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vide resources for deeper understanding of 21st century literaci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ncourage a shift in thinking…”Headware before Hardware”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aintain momentum of forward thinking through virtual NING community and Teachers4Tech.com Blo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evelop guidelines for teacher and student expecta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valuate our plan and make necessary chang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10666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apping our course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4000"/>
                            </p:stCondLst>
                            <p:childTnLst>
                              <p:par>
                                <p:cTn id="3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009 Timelin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360" y="914040"/>
            <a:ext cx="7010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Kick Off 21st Century Learning Program at Faculty Meeting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y - June: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 Week Cyber Café Professional Development Progra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uly - August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ggested “surfing” for summer, initiate NING communication, and assess Cyber Café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ate August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Kick-off “New School Year”, Outline teacher/student expectations, Set Goals for Implementing new tools, provide refresher courses if needed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ptember 28th - October 2nd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ch Cohort Recruitment Wee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ctober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ork with new “recruits” to plan for monthly Cyber Café programs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vember - December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pare and plan cyber cafés and open exploration time for teacher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NING communication will be ongoing for collaboration and evaluatio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4000"/>
                            </p:stCondLst>
                            <p:childTnLst>
                              <p:par>
                                <p:cTn id="40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0"/>
                            </p:stCondLst>
                            <p:childTnLst>
                              <p:par>
                                <p:cTn id="4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6000"/>
                            </p:stCondLst>
                            <p:childTnLst>
                              <p:par>
                                <p:cTn id="4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7000"/>
                            </p:stCondLst>
                            <p:childTnLst>
                              <p:par>
                                <p:cTn id="42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8000"/>
                            </p:stCondLst>
                            <p:childTnLst>
                              <p:par>
                                <p:cTn id="43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9000"/>
                            </p:stCondLst>
                            <p:childTnLst>
                              <p:par>
                                <p:cTn id="43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1000"/>
                            </p:stCondLst>
                            <p:childTnLst>
                              <p:par>
                                <p:cTn id="4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3000"/>
                            </p:stCondLst>
                            <p:childTnLst>
                              <p:par>
                                <p:cTn id="4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0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0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0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010 - What Comes Nex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3000" y="990720"/>
            <a:ext cx="67816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Kick off new schedule for Professional Developmen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an for parent education opportunitie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mprove school website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ster local and global collaboration within the educational community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vide open exploration, “play time,” for teachers in the computer lab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velop more efficient and effective communication within our school community through the use of technology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tilize assessments and teacher feedback for further exploration and developmen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2000"/>
                            </p:stCondLst>
                            <p:childTnLst>
                              <p:par>
                                <p:cTn id="48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3000"/>
                            </p:stCondLst>
                            <p:childTnLst>
                              <p:par>
                                <p:cTn id="49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4000"/>
                            </p:stCondLst>
                            <p:childTnLst>
                              <p:par>
                                <p:cTn id="50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0"/>
                            </p:stCondLst>
                            <p:childTnLst>
                              <p:par>
                                <p:cTn id="50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6000"/>
                            </p:stCondLst>
                            <p:childTnLst>
                              <p:par>
                                <p:cTn id="51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259092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oute…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52480" y="2286000"/>
            <a:ext cx="5639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onduct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yber Café </a:t>
            </a:r>
            <a:br>
              <a:rPr sz="50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fessional development opportunitie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160" y="838080"/>
            <a:ext cx="5638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uggest Summer 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“Surfing”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160" y="380520"/>
            <a:ext cx="5638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Communicate Goals &amp;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Expectations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066680"/>
            <a:ext cx="56386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Assess Progress and Ongoing Need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0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1066680"/>
            <a:ext cx="6019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Recruit New Cohort Member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0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1218960"/>
            <a:ext cx="6095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 Cohort Recruitment Pla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494160" y="2514600"/>
            <a:ext cx="1828800" cy="1676520"/>
            <a:chOff x="3494160" y="2514600"/>
            <a:chExt cx="1828800" cy="1676520"/>
          </a:xfrm>
        </p:grpSpPr>
        <p:sp>
          <p:nvSpPr>
            <p:cNvPr id="120" name=""/>
            <p:cNvSpPr/>
            <p:nvPr/>
          </p:nvSpPr>
          <p:spPr>
            <a:xfrm>
              <a:off x="3494160" y="3200400"/>
              <a:ext cx="609480" cy="609480"/>
            </a:xfrm>
            <a:prstGeom prst="ellipse">
              <a:avLst/>
            </a:prstGeom>
            <a:solidFill>
              <a:srgbClr val="ff226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722760" y="2514600"/>
              <a:ext cx="609480" cy="609480"/>
            </a:xfrm>
            <a:prstGeom prst="ellipse">
              <a:avLst/>
            </a:prstGeom>
            <a:solidFill>
              <a:srgbClr val="ff226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419720" y="2514600"/>
              <a:ext cx="609480" cy="609480"/>
            </a:xfrm>
            <a:prstGeom prst="ellipse">
              <a:avLst/>
            </a:prstGeom>
            <a:solidFill>
              <a:srgbClr val="ff226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03640" y="3581280"/>
              <a:ext cx="609480" cy="609840"/>
            </a:xfrm>
            <a:prstGeom prst="ellipse">
              <a:avLst/>
            </a:prstGeom>
            <a:solidFill>
              <a:srgbClr val="ff226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713120" y="3124080"/>
              <a:ext cx="609840" cy="609840"/>
            </a:xfrm>
            <a:prstGeom prst="ellipse">
              <a:avLst/>
            </a:prstGeom>
            <a:solidFill>
              <a:srgbClr val="ff226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25" name=""/>
          <p:cNvCxnSpPr>
            <a:stCxn id="126" idx="4"/>
            <a:endCxn id="126" idx="4"/>
          </p:cNvCxnSpPr>
          <p:nvPr/>
        </p:nvCxnSpPr>
        <p:spPr>
          <a:xfrm>
            <a:off x="2933280" y="403812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grpSp>
        <p:nvGrpSpPr>
          <p:cNvPr id="127" name=""/>
          <p:cNvGrpSpPr/>
          <p:nvPr/>
        </p:nvGrpSpPr>
        <p:grpSpPr>
          <a:xfrm>
            <a:off x="2666880" y="2133720"/>
            <a:ext cx="3657600" cy="2743200"/>
            <a:chOff x="2666880" y="2133720"/>
            <a:chExt cx="3657600" cy="2743200"/>
          </a:xfrm>
        </p:grpSpPr>
        <p:sp>
          <p:nvSpPr>
            <p:cNvPr id="128" name=""/>
            <p:cNvSpPr/>
            <p:nvPr/>
          </p:nvSpPr>
          <p:spPr>
            <a:xfrm>
              <a:off x="5181480" y="2133720"/>
              <a:ext cx="533520" cy="45720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91320" y="3429000"/>
              <a:ext cx="533160" cy="45720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72000" y="4419720"/>
              <a:ext cx="533520" cy="45720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666880" y="3581280"/>
              <a:ext cx="533520" cy="45720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971800" y="2133720"/>
              <a:ext cx="533520" cy="45720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32" name=""/>
            <p:cNvCxnSpPr>
              <a:stCxn id="120" idx="3"/>
              <a:endCxn id="126" idx="0"/>
            </p:cNvCxnSpPr>
            <p:nvPr/>
          </p:nvCxnSpPr>
          <p:spPr>
            <a:xfrm flipH="1" flipV="1">
              <a:off x="2933280" y="3580920"/>
              <a:ext cx="650160" cy="14040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33" name=""/>
            <p:cNvCxnSpPr>
              <a:stCxn id="128" idx="4"/>
              <a:endCxn id="122" idx="7"/>
            </p:cNvCxnSpPr>
            <p:nvPr/>
          </p:nvCxnSpPr>
          <p:spPr>
            <a:xfrm flipH="1">
              <a:off x="4939560" y="2590560"/>
              <a:ext cx="508680" cy="133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34" name=""/>
            <p:cNvCxnSpPr>
              <a:stCxn id="129" idx="2"/>
            </p:cNvCxnSpPr>
            <p:nvPr/>
          </p:nvCxnSpPr>
          <p:spPr>
            <a:xfrm flipH="1">
              <a:off x="5181120" y="3657240"/>
              <a:ext cx="610560" cy="133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35" name=""/>
            <p:cNvCxnSpPr>
              <a:stCxn id="121" idx="1"/>
              <a:endCxn id="131" idx="5"/>
            </p:cNvCxnSpPr>
            <p:nvPr/>
          </p:nvCxnSpPr>
          <p:spPr>
            <a:xfrm flipH="1" flipV="1">
              <a:off x="3426840" y="2523240"/>
              <a:ext cx="384840" cy="802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36" name=""/>
            <p:cNvCxnSpPr>
              <a:stCxn id="130" idx="1"/>
              <a:endCxn id="123" idx="5"/>
            </p:cNvCxnSpPr>
            <p:nvPr/>
          </p:nvCxnSpPr>
          <p:spPr>
            <a:xfrm flipH="1" flipV="1">
              <a:off x="4624200" y="4101480"/>
              <a:ext cx="25920" cy="3848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</p:grpSp>
      <p:grpSp>
        <p:nvGrpSpPr>
          <p:cNvPr id="137" name=""/>
          <p:cNvGrpSpPr/>
          <p:nvPr/>
        </p:nvGrpSpPr>
        <p:grpSpPr>
          <a:xfrm>
            <a:off x="1905120" y="1841400"/>
            <a:ext cx="5257800" cy="3416400"/>
            <a:chOff x="1905120" y="1841400"/>
            <a:chExt cx="5257800" cy="3416400"/>
          </a:xfrm>
        </p:grpSpPr>
        <p:sp>
          <p:nvSpPr>
            <p:cNvPr id="138" name=""/>
            <p:cNvSpPr/>
            <p:nvPr/>
          </p:nvSpPr>
          <p:spPr>
            <a:xfrm>
              <a:off x="1905120" y="3898800"/>
              <a:ext cx="533160" cy="4572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867280" y="1841400"/>
              <a:ext cx="533520" cy="4572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629400" y="3657600"/>
              <a:ext cx="533520" cy="4572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57800" y="4800600"/>
              <a:ext cx="533520" cy="4572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209680" y="1994040"/>
              <a:ext cx="533520" cy="4572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43" name=""/>
            <p:cNvCxnSpPr>
              <a:stCxn id="138" idx="7"/>
              <a:endCxn id="126" idx="3"/>
            </p:cNvCxnSpPr>
            <p:nvPr/>
          </p:nvCxnSpPr>
          <p:spPr>
            <a:xfrm>
              <a:off x="2360160" y="3965400"/>
              <a:ext cx="384840" cy="720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44" name=""/>
            <p:cNvCxnSpPr>
              <a:stCxn id="131" idx="2"/>
              <a:endCxn id="142" idx="6"/>
            </p:cNvCxnSpPr>
            <p:nvPr/>
          </p:nvCxnSpPr>
          <p:spPr>
            <a:xfrm flipH="1" flipV="1">
              <a:off x="2742480" y="2222280"/>
              <a:ext cx="229320" cy="14040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45" name=""/>
            <p:cNvCxnSpPr>
              <a:stCxn id="139" idx="3"/>
              <a:endCxn id="128" idx="6"/>
            </p:cNvCxnSpPr>
            <p:nvPr/>
          </p:nvCxnSpPr>
          <p:spPr>
            <a:xfrm flipH="1">
              <a:off x="5714280" y="2232000"/>
              <a:ext cx="230760" cy="1310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46" name=""/>
            <p:cNvCxnSpPr/>
            <p:nvPr/>
          </p:nvCxnSpPr>
          <p:spPr>
            <a:xfrm>
              <a:off x="6057720" y="3898440"/>
              <a:ext cx="57204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47" name=""/>
            <p:cNvCxnSpPr>
              <a:stCxn id="141" idx="0"/>
              <a:endCxn id="130" idx="5"/>
            </p:cNvCxnSpPr>
            <p:nvPr/>
          </p:nvCxnSpPr>
          <p:spPr>
            <a:xfrm flipH="1">
              <a:off x="5027400" y="4800600"/>
              <a:ext cx="497520" cy="10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</p:grpSp>
      <p:grpSp>
        <p:nvGrpSpPr>
          <p:cNvPr id="148" name=""/>
          <p:cNvGrpSpPr/>
          <p:nvPr/>
        </p:nvGrpSpPr>
        <p:grpSpPr>
          <a:xfrm>
            <a:off x="990720" y="4830840"/>
            <a:ext cx="685800" cy="276480"/>
            <a:chOff x="990720" y="4830840"/>
            <a:chExt cx="685800" cy="276480"/>
          </a:xfrm>
        </p:grpSpPr>
        <p:sp>
          <p:nvSpPr>
            <p:cNvPr id="149" name=""/>
            <p:cNvSpPr/>
            <p:nvPr/>
          </p:nvSpPr>
          <p:spPr>
            <a:xfrm>
              <a:off x="990720" y="4876920"/>
              <a:ext cx="533160" cy="152280"/>
            </a:xfrm>
            <a:prstGeom prst="flowChartTerminator">
              <a:avLst/>
            </a:prstGeom>
            <a:solidFill>
              <a:srgbClr val="ff2262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90720" y="4830840"/>
              <a:ext cx="685800" cy="276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009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990720" y="5440320"/>
            <a:ext cx="685800" cy="276480"/>
            <a:chOff x="990720" y="5440320"/>
            <a:chExt cx="685800" cy="276480"/>
          </a:xfrm>
        </p:grpSpPr>
        <p:sp>
          <p:nvSpPr>
            <p:cNvPr id="152" name=""/>
            <p:cNvSpPr/>
            <p:nvPr/>
          </p:nvSpPr>
          <p:spPr>
            <a:xfrm>
              <a:off x="990720" y="5486400"/>
              <a:ext cx="533160" cy="152280"/>
            </a:xfrm>
            <a:prstGeom prst="flowChartTerminator">
              <a:avLst/>
            </a:prstGeom>
            <a:solidFill>
              <a:srgbClr val="cc99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990720" y="5440320"/>
              <a:ext cx="685800" cy="276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01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990720" y="5135400"/>
            <a:ext cx="685800" cy="276480"/>
            <a:chOff x="990720" y="5135400"/>
            <a:chExt cx="685800" cy="276480"/>
          </a:xfrm>
        </p:grpSpPr>
        <p:sp>
          <p:nvSpPr>
            <p:cNvPr id="155" name=""/>
            <p:cNvSpPr/>
            <p:nvPr/>
          </p:nvSpPr>
          <p:spPr>
            <a:xfrm>
              <a:off x="990720" y="5181480"/>
              <a:ext cx="533160" cy="152640"/>
            </a:xfrm>
            <a:prstGeom prst="flowChartTerminator">
              <a:avLst/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90720" y="5135400"/>
              <a:ext cx="685800" cy="276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01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000"/>
                            </p:stCondLst>
                            <p:childTnLst>
                              <p:par>
                                <p:cTn id="5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000"/>
                            </p:stCondLst>
                            <p:childTnLst>
                              <p:par>
                                <p:cTn id="6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4000"/>
                            </p:stCondLst>
                            <p:childTnLst>
                              <p:par>
                                <p:cTn id="6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5000"/>
                            </p:stCondLst>
                            <p:childTnLst>
                              <p:par>
                                <p:cTn id="6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ROAD CREW: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19320" y="2590920"/>
            <a:ext cx="6186240" cy="29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ALERIE WHIT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LIX KOKKORI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ESLIE JON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ANDY EBBOT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TEVE FLITCRAF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000"/>
                            </p:stCondLst>
                            <p:childTnLst>
                              <p:par>
                                <p:cTn id="4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8000"/>
                            </p:stCondLst>
                            <p:childTnLst>
                              <p:par>
                                <p:cTn id="4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1066680"/>
            <a:ext cx="56386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Got NING?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0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160" y="1066680"/>
            <a:ext cx="56386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Get NING!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0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385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5" dur="385" fill="hold"/>
                                        <p:tgtEl>
                                          <p:spTgt spid="1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7" dur="385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9" dur="385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990360" y="26665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1143000" y="2514600"/>
            <a:ext cx="67816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Verdana"/>
              </a:rPr>
              <a:t>Fasten Your Seatbelts</a:t>
            </a:r>
            <a:endParaRPr b="0" lang="en-US" sz="4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447920" y="1676520"/>
            <a:ext cx="609588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Where were we?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Where are we now?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Where are we going?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67820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0505"/>
                </a:solidFill>
                <a:latin typeface="Arial"/>
              </a:rPr>
              <a:t>Where were we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04480" y="2209320"/>
            <a:ext cx="33908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0505"/>
                </a:solidFill>
                <a:latin typeface="Arial"/>
              </a:rPr>
              <a:t>Keyboard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0505"/>
                </a:solidFill>
                <a:latin typeface="Arial"/>
              </a:rPr>
              <a:t>Word Process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0505"/>
                </a:solidFill>
                <a:latin typeface="Arial"/>
              </a:rPr>
              <a:t>Educational Softwa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0505"/>
                </a:solidFill>
                <a:latin typeface="Arial"/>
              </a:rPr>
              <a:t>Internet Researc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0505"/>
                </a:solidFill>
                <a:latin typeface="Arial"/>
              </a:rPr>
              <a:t>AlphaSmar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495680" y="2209320"/>
            <a:ext cx="33912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0505"/>
                </a:solidFill>
                <a:latin typeface="Arial"/>
              </a:rPr>
              <a:t>Stock Market Gam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0505"/>
                </a:solidFill>
                <a:latin typeface="Arial"/>
              </a:rPr>
              <a:t>Graphing Calculato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0505"/>
                </a:solidFill>
                <a:latin typeface="Arial"/>
              </a:rPr>
              <a:t>Text to Speech Softwa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0505"/>
                </a:solidFill>
                <a:latin typeface="Arial"/>
              </a:rPr>
              <a:t>Garage Ban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565240" y="2065320"/>
            <a:ext cx="2036520" cy="30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0505"/>
                </a:solidFill>
                <a:latin typeface="Arial"/>
              </a:rPr>
              <a:t>Google Do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0505"/>
                </a:solidFill>
                <a:latin typeface="Arial"/>
              </a:rPr>
              <a:t>Trackst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0505"/>
                </a:solidFill>
                <a:latin typeface="Arial"/>
              </a:rPr>
              <a:t>Treasure Hu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0505"/>
                </a:solidFill>
                <a:latin typeface="Arial"/>
              </a:rPr>
              <a:t>Web Ques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0505"/>
                </a:solidFill>
                <a:latin typeface="Arial"/>
              </a:rPr>
              <a:t>Podcas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0505"/>
                </a:solidFill>
                <a:latin typeface="Arial"/>
              </a:rPr>
              <a:t>Sk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0505"/>
                </a:solidFill>
                <a:latin typeface="Arial"/>
              </a:rPr>
              <a:t>Virtual Field Tri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19320" y="990720"/>
            <a:ext cx="6781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0505"/>
                </a:solidFill>
                <a:latin typeface="Verdana"/>
              </a:rPr>
              <a:t>Where are we n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180800" y="2057040"/>
            <a:ext cx="20955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0505"/>
                </a:solidFill>
                <a:latin typeface="Arial"/>
              </a:rPr>
              <a:t>SmartBoar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0505"/>
                </a:solidFill>
                <a:latin typeface="Arial"/>
              </a:rPr>
              <a:t>PowerPoi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0505"/>
                </a:solidFill>
                <a:latin typeface="Arial"/>
              </a:rPr>
              <a:t>FaceBoo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0505"/>
                </a:solidFill>
                <a:latin typeface="Arial"/>
              </a:rPr>
              <a:t>Blog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0505"/>
                </a:solidFill>
                <a:latin typeface="Arial"/>
              </a:rPr>
              <a:t>Audio Book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0505"/>
                </a:solidFill>
                <a:latin typeface="Arial"/>
              </a:rPr>
              <a:t>iTun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00400" y="2057040"/>
            <a:ext cx="2286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0505"/>
                </a:solidFill>
                <a:latin typeface="Arial"/>
              </a:rPr>
              <a:t>Google Earth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0505"/>
                </a:solidFill>
                <a:latin typeface="Arial"/>
              </a:rPr>
              <a:t>Deliciou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0505"/>
                </a:solidFill>
                <a:latin typeface="Arial"/>
              </a:rPr>
              <a:t>Wiki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0505"/>
                </a:solidFill>
                <a:latin typeface="Arial"/>
              </a:rPr>
              <a:t>Graphic Desig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0505"/>
                </a:solidFill>
                <a:latin typeface="Arial"/>
              </a:rPr>
              <a:t>Virtual Learn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0505"/>
                </a:solidFill>
                <a:latin typeface="Arial"/>
              </a:rPr>
              <a:t>N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500"/>
                            </p:stCondLst>
                            <p:childTnLst>
                              <p:par>
                                <p:cTn id="16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500"/>
                            </p:stCondLst>
                            <p:childTnLst>
                              <p:par>
                                <p:cTn id="18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500"/>
                            </p:stCondLst>
                            <p:childTnLst>
                              <p:par>
                                <p:cTn id="19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6500"/>
                            </p:stCondLst>
                            <p:childTnLst>
                              <p:par>
                                <p:cTn id="20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7000"/>
                            </p:stCondLst>
                            <p:childTnLst>
                              <p:par>
                                <p:cTn id="21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7500"/>
                            </p:stCondLst>
                            <p:childTnLst>
                              <p:par>
                                <p:cTn id="21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8000"/>
                            </p:stCondLst>
                            <p:childTnLst>
                              <p:par>
                                <p:cTn id="22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8500"/>
                            </p:stCondLst>
                            <p:childTnLst>
                              <p:par>
                                <p:cTn id="22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9000"/>
                            </p:stCondLst>
                            <p:childTnLst>
                              <p:par>
                                <p:cTn id="23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-1295280" y="0"/>
            <a:ext cx="12725280" cy="86169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67820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0505"/>
                </a:solidFill>
                <a:latin typeface="Verdana"/>
              </a:rPr>
              <a:t>Where are we going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0800" y="2209320"/>
            <a:ext cx="33908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50505"/>
                </a:solidFill>
                <a:latin typeface="Arial"/>
              </a:rPr>
              <a:t>Sharing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50505"/>
                </a:solidFill>
                <a:latin typeface="Arial"/>
              </a:rPr>
              <a:t>Learn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50505"/>
                </a:solidFill>
                <a:latin typeface="Arial"/>
              </a:rPr>
              <a:t>Grow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495680" y="2209320"/>
            <a:ext cx="33912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50505"/>
                </a:solidFill>
                <a:latin typeface="Arial"/>
              </a:rPr>
              <a:t>Integrat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50505"/>
                </a:solidFill>
                <a:latin typeface="Arial"/>
              </a:rPr>
              <a:t>Collaborat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50505"/>
                </a:solidFill>
                <a:latin typeface="Arial"/>
              </a:rPr>
              <a:t>Innovat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385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7" dur="385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9" dur="385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1" dur="385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385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7" dur="385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9" dur="385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1" dur="385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385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7" dur="385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9" dur="385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1" dur="385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000"/>
                            </p:stCondLst>
                            <p:childTnLst>
                              <p:par>
                                <p:cTn id="27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385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7" dur="385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9" dur="385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1" dur="385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385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7" dur="385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9" dur="385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1" dur="385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0"/>
                            </p:stCondLst>
                            <p:childTnLst>
                              <p:par>
                                <p:cTn id="29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385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7" dur="385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9" dur="385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1" dur="385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 rot="270600">
            <a:off x="-152280" y="-533520"/>
            <a:ext cx="9794880" cy="78487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438280"/>
            <a:ext cx="6781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50505"/>
                </a:solidFill>
                <a:latin typeface="Arial"/>
              </a:rPr>
              <a:t>HOW DO WE GET THERE?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ilot’s Miss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240" y="685800"/>
            <a:ext cx="6248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ission of The Pilot School is to uncover the unique educational challenges of each student, and to give each child the specific </a:t>
            </a:r>
            <a:r>
              <a:rPr b="0" lang="en-US" sz="2400" spc="-1" strike="noStrike">
                <a:solidFill>
                  <a:srgbClr val="2bff12"/>
                </a:solidFill>
                <a:latin typeface="Arial"/>
              </a:rPr>
              <a:t>developmental</a:t>
            </a:r>
            <a:r>
              <a:rPr b="0" lang="en-US" sz="2400" spc="-1" strike="noStrike">
                <a:solidFill>
                  <a:srgbClr val="ff226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bff12"/>
                </a:solidFill>
                <a:latin typeface="Arial"/>
              </a:rPr>
              <a:t>tool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guidance, and attention needed to learn, achieve and ultimately, to feel comfortable and </a:t>
            </a:r>
            <a:r>
              <a:rPr b="0" lang="en-US" sz="2400" spc="-1" strike="noStrike">
                <a:solidFill>
                  <a:srgbClr val="2bff12"/>
                </a:solidFill>
                <a:latin typeface="Arial"/>
              </a:rPr>
              <a:t>be successfu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the academic environment that is </a:t>
            </a:r>
            <a:r>
              <a:rPr b="0" lang="en-US" sz="2400" spc="-1" strike="noStrike">
                <a:solidFill>
                  <a:srgbClr val="2bff12"/>
                </a:solidFill>
                <a:latin typeface="Arial"/>
              </a:rPr>
              <a:t>mo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bff12"/>
                </a:solidFill>
                <a:latin typeface="Arial"/>
              </a:rPr>
              <a:t>appropria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3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3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3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447920" y="15235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</a:t>
            </a:r>
            <a:r>
              <a:rPr b="0" lang="en-US" sz="3200" spc="-1" strike="noStrike">
                <a:solidFill>
                  <a:srgbClr val="2bff12"/>
                </a:solidFill>
                <a:latin typeface="Arial"/>
              </a:rPr>
              <a:t>developmental</a:t>
            </a:r>
            <a:r>
              <a:rPr b="0" lang="en-US" sz="3200" spc="-1" strike="noStrike">
                <a:solidFill>
                  <a:srgbClr val="ff226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bff12"/>
                </a:solidFill>
                <a:latin typeface="Arial"/>
              </a:rPr>
              <a:t>tool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at will maximize </a:t>
            </a:r>
            <a:r>
              <a:rPr b="0" lang="en-US" sz="3200" spc="-1" strike="noStrike">
                <a:solidFill>
                  <a:srgbClr val="2bff12"/>
                </a:solidFill>
                <a:latin typeface="Arial"/>
              </a:rPr>
              <a:t>succes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be </a:t>
            </a:r>
            <a:r>
              <a:rPr b="0" lang="en-US" sz="3200" spc="-1" strike="noStrike">
                <a:solidFill>
                  <a:srgbClr val="2bff12"/>
                </a:solidFill>
                <a:latin typeface="Arial"/>
              </a:rPr>
              <a:t>mo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bff12"/>
                </a:solidFill>
                <a:latin typeface="Arial"/>
              </a:rPr>
              <a:t>appropriat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achieving individual goal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914400" y="-36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ech Cohort’s Miss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17:02:36Z</dcterms:created>
  <dc:creator>Steve Flitcraft</dc:creator>
  <dc:description/>
  <dc:language>en-US</dc:language>
  <cp:lastModifiedBy>Steve Flitcraft</cp:lastModifiedBy>
  <cp:lastPrinted>2009-03-30T15:28:22Z</cp:lastPrinted>
  <dcterms:modified xsi:type="dcterms:W3CDTF">2009-04-29T19:03:07Z</dcterms:modified>
  <cp:revision>11</cp:revision>
  <dc:subject/>
  <dc:title>21st Century Learning     NEXT EXIT</dc:title>
</cp:coreProperties>
</file>